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987-5397-4119-B4D2-6078DB79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E3D-EBD6-41C4-B0D4-C4992602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E5A-3F95-430A-9171-41375624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2A6-6293-4741-8CB9-A4B9C55D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56A5-1A25-413B-9BF1-583BF33B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8E06-B1C7-4C3A-9CE1-0B1D7254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8007-AF06-444B-9A8F-689CC734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8EF2-1341-45EF-B523-B00147D3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7E27-CBA0-4ABD-81AC-DF0F57C3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D389-E958-4430-898B-4B635CED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3626-5A37-44EE-95F1-261D4A59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F39-2D39-4187-8539-C3D9426A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9700-9DCF-4B97-BD72-D8D8D2E6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84A9-F52E-4779-A537-836338C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E1DC-D737-49B1-A880-23F9BB9E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F948-5D98-4995-83D4-7DF6DB90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ECD7-0C89-48BE-9A1F-5717E90A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0B2-DCF3-4669-92CC-1F0B8194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845-5C69-42D0-9237-04A9EDAB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DC5-6F6B-4E90-9668-672697D6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A68-E762-487C-9824-662BAF3A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9BC-51DD-4941-80E5-2AFAC43C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060-CF4A-43CA-8E96-BA51A59B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524-FCB4-4B3D-81C8-928934AF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E419-CF1F-4C86-82D6-042A91ACF8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D468-C4D1-4DC8-B5C9-41EA0B0371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Making Decisions 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038480" y="259092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us makes decisio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decisions become so automatic that they become habit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4A1B-F890-4B7E-87CB-E7838A8CF4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up or reflec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your decis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s work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s not work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you change or do over?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629-F0E6-48D9-90A2-A7019D95B3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several models to use when making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great deal of similarity among model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20F-61AE-4DCB-947A-65AAF80280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decision to be made/problem to be s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her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lternatives-possi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the advantages and disadvantages of each altern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decision and form a pla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the decis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up - Evaluate the dec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2E5-7A75-42F6-B2DE-880B94E03E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problem to be solved or the decision to be ma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y initially need to be general in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yourself som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my problem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problem worth solv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ppens if I ignore it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A1E-132F-4B27-9F6A-D78D8C42F2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ing information is probably occurring throughout this proc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we need information before we can generate alternativ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information before we can determine the advantages/disadvantages of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impacted by the decision may be one of the pieces of information that we ne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612-03DB-4D66-AAA4-1E24BCF502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alternatives-possibiliti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 may be useful for some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t options from other’s persp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at there may not be a perfect solu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7E0-734E-4C78-8C2E-97495AC94C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the advantages and disadvantages of each alternati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 are some graphic organizers that can help with th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about a check list, or a chart with plus and minus columns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596-258B-4394-8F13-68D041FA3F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decision and form a p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you need to do to implement this pl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carry it ou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about – who, what, where, when and ho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A0F-8404-4EC5-A313-67D495C2EA8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the decis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following through on your decision means that you have changed your solution or decision to not doing something.  Is that what you really want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ther words- Do 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29F-8369-4F9C-AF36-79A0996E86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PS</cp:lastModifiedBy>
  <dcterms:modified xsi:type="dcterms:W3CDTF">2009-07-27T21:49:07Z</dcterms:modified>
  <cp:revision>3</cp:revision>
  <dc:subject/>
  <dc:title>PowerPoint Presentation</dc:title>
</cp:coreProperties>
</file>